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740-4B51-496B-A029-76E389DF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406-BCAD-44A1-B73C-3EC2590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964-86ED-4589-9C0C-4E867B31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C37-5396-4389-9048-20DC271D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49B-DD9E-410E-A1FE-9B04897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43D-0D7B-49F3-BAB1-7BE2B913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19D-3CAB-431A-9B12-1FDE817D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FE6-E58B-4629-B44B-B125E301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578-CAD0-45BC-88B2-60CAA92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A61-7B54-4623-82FA-31573B2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1C3-BFF6-4BCE-BF57-CEA95E7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6A4-E87D-4866-B8C0-391C6D1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0C2-BA83-4893-BF79-300548519D3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1 Ó, svätý, Bože, Otč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svätý Bože, Otče všemohú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ľud sa blíž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 pokorou,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ej lásk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ja vždy v jedno týchto manželo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im radosť, pokoj duše stá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ieč rany, utíš každý srdca bôľ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, aby v láske verne zotrv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by si ty v ni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ávený bo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07:07Z</dcterms:modified>
  <cp:revision>72</cp:revision>
  <dc:subject/>
  <dc:title>Je veľký náš Pán, on slávy je Kráľ Nech do všetkých strán  spev vrúcnych znie chvál.</dc:title>
</cp:coreProperties>
</file>